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5084-E887-4754-9F1D-8D77173B730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9EB3-F6F6-4173-8D35-09F9F76DD6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6CE-3297-4D00-B86C-2A336383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5E1-2CFE-41E0-9882-8B0216D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BED-B091-4F3D-B0E3-CF92EB6A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848-54B5-464E-93A2-D3FFF431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6ED-99BE-44E4-A443-E0664018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F1F-DAE1-4A2C-B487-AFCB0722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BEA-B7A4-4DE1-9A81-EADE6E5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96E-5E58-4552-8227-AD3E85FA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3BF-F19B-445D-B1B1-09724175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3E6-292E-447C-AA59-9A5D815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540-40D7-4F4D-8A2A-1586F652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313-89AE-4296-92B7-099A43D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20E3-17E1-4057-BA95-9343BCA81A5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tangolo 1"/>
          <p:cNvSpPr/>
          <p:nvPr/>
        </p:nvSpPr>
        <p:spPr>
          <a:xfrm>
            <a:off x="1116000" y="1268280"/>
            <a:ext cx="6985080" cy="4537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FF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First Workshop on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stria Ro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5 November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hints on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et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n Interne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ne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FO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10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rst event in the implementation of our 2013-15 P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 as a co-operative knowledge shar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ial test on how to organize futur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Historical Hints on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nterne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Future of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OA – First Workshop on Internet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The Interne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iruses, Phishing, Firewalls, Anti-viruses, Encryption, etc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Backbone infrastructure, local providers, the Net, WiF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Userid, Pswd, Registration, Passive and active user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g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lectronic documents, HTML, Website Content, Dat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ag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lum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xponential growth, Large Storage Devices, the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Knowledge base, News, Marketing, Banking, Research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o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Journalism, e-Writers, Discussion Fora, Dissemination too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Modern Internet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ows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ternet Explorer, Google Chr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arch Eng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Google, B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ice Providers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otmail, Gmail, Alice, Libero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Network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acebook, Linkedin, Twitte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5564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Main Interne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nbox management, Personal Folders, Contacts, DLs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ams, Virus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Access through search engines, Knowledge-base si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Co-operative development, verification proces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xponential growth, products, best offers, digital marketing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bank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ecurity, Transactions, Investments, Financial Info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-Gover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A services, E-voting, E-Survey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,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. The FFOA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it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to other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FOA – First Workshop on Internet                                                                    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November 2013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561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. Conclusions/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s to reduce or exp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topics to illus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all feasibility of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hands-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thank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19:28Z</dcterms:created>
  <dc:creator>pino</dc:creator>
  <dc:description/>
  <dc:language>en-US</dc:language>
  <cp:lastModifiedBy>hp</cp:lastModifiedBy>
  <dcterms:modified xsi:type="dcterms:W3CDTF">2013-11-22T07:27:02Z</dcterms:modified>
  <cp:revision>26</cp:revision>
  <dc:subject/>
  <dc:title>FFOA – First Workshop on Internet                                                                                  April 2013 _______________________________________________________________________________________________________________________</dc:title>
</cp:coreProperties>
</file>