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9F91-8CFC-4924-88F7-3B5A1F2D5A7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98BB-E8F7-4875-B6D6-0D65A04B82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66B-56AB-458A-938E-FEF25110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241-C683-4751-8C3B-CF6368A8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33D-EDB1-420D-A8B4-35DB4EC6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590-7884-4641-945E-CDF7AB60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81B-5FA0-40AF-B4BD-E0143119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818-AC8A-46E0-A4B1-ED8A609F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9AA-EE1C-4E76-AFBF-DA2F2668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DCC-104B-4217-AEEC-576C28FC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60C-ED56-4563-A794-3F96F2AC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BF7-2D86-4E7F-800A-3DBF461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7C4-D265-4FAD-9289-B70D070C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AA8-4A22-46DB-894E-ADF9BB3D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BCCF-54D4-4643-A674-379FCD9617E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tangolo 1"/>
          <p:cNvSpPr/>
          <p:nvPr/>
        </p:nvSpPr>
        <p:spPr>
          <a:xfrm>
            <a:off x="1116000" y="1268280"/>
            <a:ext cx="6985080" cy="4537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FF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First Workshop on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ustria Ro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5 November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ical hints on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et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n Interne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ne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FO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s and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10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rst event in the implementation of our 2013-15 P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shop as a co-operative knowledge shar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itial test on how to organize futur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Historical Hints on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Inter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nterne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Future of Int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OA – First Workshop on Internet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The Interne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Viruses, Phishing, Firewalls, Anti-viruses, Encryption, etc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Backbone infrastructure, local providers, the Net, WiF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r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Userid, Pswd, Registration, Passive and active users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vig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Electronic documents, HTML, Website Content, Data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nage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olum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Exponential growth, Large Storage Devices, the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Knowledge base, News, Marketing, Banking, Research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og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-Journalism, e-Writers, Discussion Fora, Dissemination too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 Modern Internet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ows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ternet Explorer, Google Chr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arch Engi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Google, B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rvice Providers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otmail, Gmail, Alice, Libero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cial Network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acebook, Linkedin, Twitte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5564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Main Interne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nbox management, Personal Folders, Contacts, DLs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ams, Virus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semin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Access through search engines, Knowledge-base si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kiped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Co-operative development, verification proces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Exponential growth, products, best offers, digital marketing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 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-bank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ecurity, Transactions, Investments, Financial Info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-Gover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A services, E-voting, E-Survey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. The FFOA Web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o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ite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to other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. Conclusions/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s to reduce or exp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topics to illus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all feasibility of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hands-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thanks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19:28Z</dcterms:created>
  <dc:creator>pino</dc:creator>
  <dc:description/>
  <dc:language>en-US</dc:language>
  <cp:lastModifiedBy>hp</cp:lastModifiedBy>
  <dcterms:modified xsi:type="dcterms:W3CDTF">2013-11-22T07:27:02Z</dcterms:modified>
  <cp:revision>26</cp:revision>
  <dc:subject/>
  <dc:title>FFOA – First Workshop on Internet                                                                                  April 2013 _______________________________________________________________________________________________________________________</dc:title>
</cp:coreProperties>
</file>